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3.gif" ContentType="image/gif"/>
  <Override PartName="/ppt/media/image10.png" ContentType="image/png"/>
  <Override PartName="/ppt/media/image5.png" ContentType="image/png"/>
  <Override PartName="/ppt/media/image4.png" ContentType="image/png"/>
  <Override PartName="/ppt/media/image12.png" ContentType="image/png"/>
  <Override PartName="/ppt/media/image7.png" ContentType="image/png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gif" ContentType="image/gif"/>
  <Override PartName="/ppt/media/image17.png" ContentType="image/png"/>
  <Override PartName="/ppt/media/image19.gif" ContentType="image/gif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901D3-68EB-4A63-9A29-D1305AD605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цы основных документов упра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основной деятельности (производственным вопросам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ы по личному составу (персоналу предприяти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иказа является дата его подписания руководителе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риказ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 по личному составу – обязательный документ трудовых правоотнош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водного приказа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личному составу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указа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о-справоч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токол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ой протокола является дата проведения собра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полного протокол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новидности актов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к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внешней и внутренне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лужебная записка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клад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ые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ъяснительной записк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ды справок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, подтверждающие работу (учебу), оплату труда, место проживания и т.п., составляются по запросам граждан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правки по производственным вопросам, составляются по запросу руководства: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- внеш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- внутренние составляются по запросу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 справки с места работ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еятельност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явл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фициально-деловой стиль изложения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заявлен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зюм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резюме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оформляются на бланк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оекты писем готовятся исполнителями по поручению руководства предприят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тадии подготовки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3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о должно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1200"/>
            </a:b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сновные виды уставов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государственной организации  (утверждается вышестоящим органом – министерством, комитетом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муниципальной организации (утверждается городской или районной администрацие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коммерческой организации 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общественной организации (утверждается общим собранием (съездом) участников орг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с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 – просьбы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1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входящего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исьма-ответ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2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3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гарантийного письм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4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разец информацион-ного письма 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4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опросы ?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став должен иметь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Текст устава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я, инструкции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оложение 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Инструкция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функции, права, обязанности и ответственность сотрудника предприятия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трудовой договор с работник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зрабатывается  руководителем структурного подразделения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визируется  юрисконсультом и кадровой службой;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тверждается  руководителем или заместителем директора, курирующим это подразделение, или вводится приказом.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дительные документы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C8F69-66B4-4F63-851C-32F7F956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F50FE-80B0-49F0-BDC6-71344BC66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77D2-12DF-47D1-A253-2C4D6F208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534C-A01B-44C4-936E-4CDCD596C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049A2-CF2F-4F24-8497-CEA1F98CE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5DD76-E3D2-4582-AE2B-75EB0E588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95FDD-ABF9-4B80-A385-121F7822A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7296D-02A2-4F0B-84FA-71509500A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4FC41-FD97-4677-B62A-607837FD0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635B6-7A54-4B89-A0A5-3FC2F2998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B35D6-5C1F-420B-95D3-A309DF42F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EBFE-9198-43EF-8D89-6937BB7A4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D03B5-9545-4982-AE7E-C267FFBA2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C2135-970E-4201-BDB3-D48B7A8CB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C87C2-8BB8-4471-89AC-7837613F0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38DEC-2097-4634-A1CF-B1D195F96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85BBF-E759-4916-9FFF-A85AE9F58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120B-081C-4678-B230-1D37EB684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0E899-91D9-419C-96B9-D4705409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65523-74DA-4CEF-A47D-1C179296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FCC9-6184-4C1C-8B29-E150D2CC3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B6F18-97C3-4A4F-9D35-1EF5380D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5C4C-2076-4C33-AFB6-F2B81244B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D575-F26B-47F4-B023-6DE917FF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Picture 4" descr="minispir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Line 5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FB9BE-6F3C-4841-9805-1BC34F29D953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Rectangle 3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Picture 4" descr="minispir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657FC-C5AE-4E90-8007-D932CB3C0C5B}" type="slidenum">
              <a:rPr b="0" lang="ru-RU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42920" y="1125360"/>
            <a:ext cx="7772400" cy="165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d3333"/>
                </a:solidFill>
                <a:latin typeface="Times New Roman"/>
              </a:rPr>
              <a:t>Образцы основных документов управления</a:t>
            </a:r>
            <a:endParaRPr b="0" lang="en-US" sz="5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a08366"/>
              </a:solidFill>
              <a:latin typeface="Times New Roman"/>
            </a:endParaRPr>
          </a:p>
        </p:txBody>
      </p:sp>
      <p:pic>
        <p:nvPicPr>
          <p:cNvPr id="98" name="Picture 6" descr="AG00280_(t)"/>
          <p:cNvPicPr/>
          <p:nvPr/>
        </p:nvPicPr>
        <p:blipFill>
          <a:blip r:embed="rId1"/>
          <a:stretch/>
        </p:blipFill>
        <p:spPr>
          <a:xfrm>
            <a:off x="3564000" y="3716280"/>
            <a:ext cx="2592360" cy="259236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40056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71640" y="2060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 в целях разрешения производственных задач.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риказы предприятия делятся на две основные группы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основной деятельности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роизводственным вопросам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иказы по </a:t>
            </a: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(персоналу предприятия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1187280" y="4581360"/>
            <a:ext cx="7631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Датой приказа является</a:t>
            </a:r>
            <a:r>
              <a:rPr b="0" lang="ru-RU" sz="32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дата его подписания руководителе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" dur="5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6" descr=""/>
          <p:cNvPicPr/>
          <p:nvPr/>
        </p:nvPicPr>
        <p:blipFill>
          <a:blip r:embed="rId1"/>
          <a:srcRect l="31141" t="16899" r="30308" b="18004"/>
          <a:stretch/>
        </p:blipFill>
        <p:spPr>
          <a:xfrm>
            <a:off x="1547640" y="189000"/>
            <a:ext cx="4977000" cy="6480000"/>
          </a:xfrm>
          <a:prstGeom prst="rect">
            <a:avLst/>
          </a:prstGeom>
          <a:ln w="0">
            <a:noFill/>
          </a:ln>
        </p:spPr>
      </p:pic>
      <p:sp>
        <p:nvSpPr>
          <p:cNvPr id="132" name="Text Box 5"/>
          <p:cNvSpPr/>
          <p:nvPr/>
        </p:nvSpPr>
        <p:spPr>
          <a:xfrm>
            <a:off x="6516720" y="333360"/>
            <a:ext cx="230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риказ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иказ по личному составу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правовой акт, издаваемый руководителем, как правило, по вопросам приема, увольнения и перевода работников предприят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Приказ по личному составу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обязательный документ трудовых правоотношен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1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rcRect l="30308" t="15001" r="30308" b="15280"/>
          <a:stretch/>
        </p:blipFill>
        <p:spPr>
          <a:xfrm>
            <a:off x="900000" y="189000"/>
            <a:ext cx="4915080" cy="652464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3"/>
          <p:cNvSpPr/>
          <p:nvPr/>
        </p:nvSpPr>
        <p:spPr>
          <a:xfrm>
            <a:off x="5796000" y="18900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"/>
          <p:cNvPicPr/>
          <p:nvPr/>
        </p:nvPicPr>
        <p:blipFill>
          <a:blip r:embed="rId1"/>
          <a:srcRect l="31141" t="16237" r="30308" b="17588"/>
          <a:stretch/>
        </p:blipFill>
        <p:spPr>
          <a:xfrm>
            <a:off x="900000" y="260280"/>
            <a:ext cx="4810320" cy="633744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4"/>
          <p:cNvSpPr/>
          <p:nvPr/>
        </p:nvSpPr>
        <p:spPr>
          <a:xfrm>
            <a:off x="5651640" y="260280"/>
            <a:ext cx="349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сводного приказа </a:t>
            </a:r>
            <a:br>
              <a:rPr sz="2800"/>
            </a:b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по личному составу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/>
          <a:srcRect l="31141" t="16150" r="31264" b="19398"/>
          <a:stretch/>
        </p:blipFill>
        <p:spPr>
          <a:xfrm>
            <a:off x="971640" y="189000"/>
            <a:ext cx="5040360" cy="64818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3"/>
          <p:cNvSpPr/>
          <p:nvPr/>
        </p:nvSpPr>
        <p:spPr>
          <a:xfrm>
            <a:off x="6588000" y="333360"/>
            <a:ext cx="2376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указания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42920" y="404640"/>
            <a:ext cx="7772400" cy="99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Информационно-справоч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7280" y="1699920"/>
            <a:ext cx="76327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ротокол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Акты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Докладные и служебные записки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Справки 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402000"/>
                </a:solidFill>
                <a:latin typeface="Times New Roman"/>
              </a:rPr>
              <a:t>Письма и др.</a:t>
            </a:r>
            <a:endParaRPr b="0" lang="en-US" sz="3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ротокол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фиксирующий ход обсуждения вопросов и коллегиального принятия решений на собраниях, совещаниях, заседаниях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Text Box 4"/>
          <p:cNvSpPr/>
          <p:nvPr/>
        </p:nvSpPr>
        <p:spPr>
          <a:xfrm>
            <a:off x="1042920" y="4365720"/>
            <a:ext cx="77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Датой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ротокола является </a:t>
            </a:r>
            <a:r>
              <a:rPr b="0" lang="ru-RU" sz="3200" spc="-1" strike="noStrike" u="sng">
                <a:solidFill>
                  <a:srgbClr val="402000"/>
                </a:solidFill>
                <a:uFillTx/>
                <a:latin typeface="Times New Roman"/>
              </a:rPr>
              <a:t>дата проведения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собрания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2" descr=""/>
          <p:cNvPicPr/>
          <p:nvPr/>
        </p:nvPicPr>
        <p:blipFill>
          <a:blip r:embed="rId1"/>
          <a:srcRect l="31141" t="17052" r="30308" b="14252"/>
          <a:stretch/>
        </p:blipFill>
        <p:spPr>
          <a:xfrm>
            <a:off x="900000" y="115920"/>
            <a:ext cx="4903920" cy="655308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3"/>
          <p:cNvSpPr/>
          <p:nvPr/>
        </p:nvSpPr>
        <p:spPr>
          <a:xfrm>
            <a:off x="5940360" y="260280"/>
            <a:ext cx="2773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полного протокол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рганизацион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987640" y="2276640"/>
            <a:ext cx="4013280" cy="201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Уставы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Полож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402000"/>
              </a:buClr>
              <a:buSzPct val="9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000" spc="-1" strike="noStrike">
                <a:solidFill>
                  <a:srgbClr val="402000"/>
                </a:solidFill>
                <a:latin typeface="Times New Roman"/>
              </a:rPr>
              <a:t>Инструкци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Акт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6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ставленный несколькими лицами и подтверждающий конкретные факты или действ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d3333"/>
                </a:solidFill>
                <a:latin typeface="Times New Roman"/>
              </a:rPr>
              <a:t>Разновидности акто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иемки-передачи оборудования;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обследования места происшествия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списания материальных ценностей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акт проверк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коммерческий акт и т.д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" dur="500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1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1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" dur="500"/>
                                        <p:tgtEl>
                                          <p:spTgt spid="1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rcRect l="31141" t="15001" r="30308" b="16298"/>
          <a:stretch/>
        </p:blipFill>
        <p:spPr>
          <a:xfrm>
            <a:off x="1042920" y="260280"/>
            <a:ext cx="4794480" cy="640872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3"/>
          <p:cNvSpPr/>
          <p:nvPr/>
        </p:nvSpPr>
        <p:spPr>
          <a:xfrm>
            <a:off x="6445440" y="333360"/>
            <a:ext cx="2215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</a:t>
            </a:r>
            <a:br>
              <a:rPr sz="4000"/>
            </a:b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ак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Докладная записк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71640" y="1699920"/>
            <a:ext cx="77724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Это документ, адресованный руководству, содержащий изложение какого-либо вопроса с выводами и предложениями составител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кладная записка может быть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и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ей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Служебная записка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документ, адресованный руководителю предприятия или структурного подразделения, используемый  для решения  производственных  вопросов, как правило, внутри предприятия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"/>
          <p:cNvPicPr/>
          <p:nvPr/>
        </p:nvPicPr>
        <p:blipFill>
          <a:blip r:embed="rId1"/>
          <a:srcRect l="32428" t="15001" r="32150" b="30085"/>
          <a:stretch/>
        </p:blipFill>
        <p:spPr>
          <a:xfrm>
            <a:off x="673200" y="260280"/>
            <a:ext cx="5389560" cy="659772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3"/>
          <p:cNvSpPr/>
          <p:nvPr/>
        </p:nvSpPr>
        <p:spPr>
          <a:xfrm>
            <a:off x="6048360" y="260280"/>
            <a:ext cx="30956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докладной записки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Объяснительные записк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971640" y="2133720"/>
            <a:ext cx="77724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ставляются по производственным вопросам и трудовым правоотно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объяснительной записки составляется в произвольной форме, как правило, с указанием причин, которые привели к каким-либо нарушения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"/>
          <p:cNvPicPr/>
          <p:nvPr/>
        </p:nvPicPr>
        <p:blipFill>
          <a:blip r:embed="rId1"/>
          <a:srcRect l="32166" t="18474" r="33019" b="34854"/>
          <a:stretch/>
        </p:blipFill>
        <p:spPr>
          <a:xfrm>
            <a:off x="324000" y="333360"/>
            <a:ext cx="5276880" cy="59770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3"/>
          <p:cNvSpPr/>
          <p:nvPr/>
        </p:nvSpPr>
        <p:spPr>
          <a:xfrm>
            <a:off x="5580000" y="476280"/>
            <a:ext cx="3240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разец внутренней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объяснительной записки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Справка</a:t>
            </a:r>
            <a:r>
              <a:rPr b="0" lang="ru-RU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описание и (или) подтверждение фактов, событий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Виды справок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403280" y="1773360"/>
            <a:ext cx="689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подтверждающие работу (учебу), оплату труда, место проживания и т.п., составляются </a:t>
            </a: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по запросам граждан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Times New Roman"/>
              </a:rPr>
              <a:t>Справки по производственным вопросам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, составляются по запросу руководства: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еш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вышестоящей организации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-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внутренние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составляются по запросу</a:t>
            </a:r>
            <a:br>
              <a:rPr sz="2800"/>
            </a:b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   руководства своей организации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2" descr=""/>
          <p:cNvPicPr/>
          <p:nvPr/>
        </p:nvPicPr>
        <p:blipFill>
          <a:blip r:embed="rId1"/>
          <a:srcRect l="30854" t="16248" r="31157" b="43910"/>
          <a:stretch/>
        </p:blipFill>
        <p:spPr>
          <a:xfrm>
            <a:off x="611280" y="260280"/>
            <a:ext cx="5616360" cy="521028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3"/>
          <p:cNvSpPr/>
          <p:nvPr/>
        </p:nvSpPr>
        <p:spPr>
          <a:xfrm>
            <a:off x="6227640" y="404640"/>
            <a:ext cx="259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 справки с места работ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"/>
          <p:cNvPicPr/>
          <p:nvPr/>
        </p:nvPicPr>
        <p:blipFill>
          <a:blip r:embed="rId1"/>
          <a:srcRect l="31313" t="18343" r="31137" b="24512"/>
          <a:stretch/>
        </p:blipFill>
        <p:spPr>
          <a:xfrm>
            <a:off x="2195640" y="260280"/>
            <a:ext cx="5400720" cy="626436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3"/>
          <p:cNvSpPr/>
          <p:nvPr/>
        </p:nvSpPr>
        <p:spPr>
          <a:xfrm>
            <a:off x="2556000" y="5300640"/>
            <a:ext cx="518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Образец внутренней справки по производственной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</a:rPr>
              <a:t>деятельности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42920" y="1916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Устав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– это правовой акт, определяющий права, функции, структуру организации в сфере государственной, коммерческой или общественной деятельност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Оформляется на стандартных листах бумаги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Заявлени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просьбу или предложение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Текст заявления должен быть юридически правильным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Не принято употреблять архаизмы и канцеляризмы («весьма убедительно», «заранее признателен», «прошу не отказать»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188" name="Picture 4" descr="MOUSE1"/>
          <p:cNvPicPr/>
          <p:nvPr/>
        </p:nvPicPr>
        <p:blipFill>
          <a:blip r:embed="rId1"/>
          <a:stretch/>
        </p:blipFill>
        <p:spPr>
          <a:xfrm>
            <a:off x="6732720" y="5084640"/>
            <a:ext cx="1193760" cy="129564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Официально-деловой стиль изложения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91" name="Picture 6" descr="Язык документов отличает подчеркнутая логичность и безэмоциональность"/>
          <p:cNvPicPr/>
          <p:nvPr/>
        </p:nvPicPr>
        <p:blipFill>
          <a:blip r:embed="rId1"/>
          <a:stretch/>
        </p:blipFill>
        <p:spPr>
          <a:xfrm>
            <a:off x="3995640" y="1844640"/>
            <a:ext cx="4681800" cy="4227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7"/>
          <p:cNvSpPr/>
          <p:nvPr/>
        </p:nvSpPr>
        <p:spPr>
          <a:xfrm>
            <a:off x="971640" y="2349360"/>
            <a:ext cx="3168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Язык документов отличается подчеркнутой логичностью и безэмоциональностью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"/>
          <p:cNvPicPr/>
          <p:nvPr/>
        </p:nvPicPr>
        <p:blipFill>
          <a:blip r:embed="rId1"/>
          <a:srcRect l="30833" t="16423" r="33039" b="24074"/>
          <a:stretch/>
        </p:blipFill>
        <p:spPr>
          <a:xfrm>
            <a:off x="971640" y="260280"/>
            <a:ext cx="4895640" cy="626436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3"/>
          <p:cNvSpPr/>
          <p:nvPr/>
        </p:nvSpPr>
        <p:spPr>
          <a:xfrm>
            <a:off x="6156360" y="333360"/>
            <a:ext cx="2771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заявления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7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Резюме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42920" y="1989000"/>
            <a:ext cx="7772400" cy="26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документ, содержащий сведения, характеризующие уровень образования, профессиональные навыки и опыт работы претендента на должность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2" descr=""/>
          <p:cNvPicPr/>
          <p:nvPr/>
        </p:nvPicPr>
        <p:blipFill>
          <a:blip r:embed="rId1"/>
          <a:srcRect l="31096" t="19984" r="30194" b="19010"/>
          <a:stretch/>
        </p:blipFill>
        <p:spPr>
          <a:xfrm>
            <a:off x="971640" y="260280"/>
            <a:ext cx="5173560" cy="6408720"/>
          </a:xfrm>
          <a:prstGeom prst="rect">
            <a:avLst/>
          </a:prstGeom>
          <a:ln w="0">
            <a:noFill/>
          </a:ln>
        </p:spPr>
      </p:pic>
      <p:sp>
        <p:nvSpPr>
          <p:cNvPr id="204" name="Text Box 3"/>
          <p:cNvSpPr/>
          <p:nvPr/>
        </p:nvSpPr>
        <p:spPr>
          <a:xfrm>
            <a:off x="6516720" y="333360"/>
            <a:ext cx="2305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резюме</a:t>
            </a:r>
            <a:r>
              <a:rPr b="0" lang="ru-RU" sz="40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Письмо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971640" y="1700280"/>
            <a:ext cx="77724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Это обобщенное название различных по содержанию документов, пересылаемых по почте, курьером, посредством факсимильной связи, электронной почтой и т.д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исьма оформляются на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бланке письма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402000"/>
                </a:solidFill>
                <a:latin typeface="Times New Roman"/>
              </a:rPr>
              <a:t>Проекты писем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готовятся исполнителями по поручению руководства предприятия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pic>
        <p:nvPicPr>
          <p:cNvPr id="208" name="Picture 4" descr="017"/>
          <p:cNvPicPr/>
          <p:nvPr/>
        </p:nvPicPr>
        <p:blipFill>
          <a:blip r:embed="rId1"/>
          <a:stretch/>
        </p:blipFill>
        <p:spPr>
          <a:xfrm>
            <a:off x="6804000" y="3429000"/>
            <a:ext cx="1079640" cy="10382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d3333"/>
                </a:solidFill>
                <a:latin typeface="Times New Roman"/>
              </a:rPr>
              <a:t>По содержанию и назначению письма могут быть: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03728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струк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гарантий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инфор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коммерчески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рекламационные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запросы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402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402000"/>
                </a:solidFill>
                <a:latin typeface="Times New Roman"/>
              </a:rPr>
              <a:t>письма-приглашения и др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Стадии подготовки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331640" y="1773360"/>
            <a:ext cx="7110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Изучение существа вопрос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бор необходимых сведений, в т.ч. 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из предыдущей переписки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готовка проекта письма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Согласование проекта (при</a:t>
            </a:r>
            <a:br>
              <a:rPr sz="3200"/>
            </a:b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необходимости);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402000"/>
              </a:buClr>
              <a:buSzPct val="90000"/>
              <a:buFont typeface="Monotype Sort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Подписание письма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исьмо должно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71280" y="1916280"/>
            <a:ext cx="7848360" cy="424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Дату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Номер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Ссылку на дату и номер полученного</a:t>
            </a:r>
            <a:br>
              <a:rPr sz="2800"/>
            </a:b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 письма (в письмах-ответах)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Адреса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Заголовок (отвечающий на вопрос - о чем?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Подпись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б исполнителе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402000"/>
                </a:solidFill>
                <a:latin typeface="Times New Roman"/>
              </a:rPr>
              <a:t>Отметку о наличии приложений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Основные виды уставов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042560" y="1700280"/>
            <a:ext cx="7777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государственной организации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 (утверждается вышестоящим органом – министерством, комитетом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муниципальн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городской или районной администрацие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коммерческой 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учредителями, собственниками имущества) и регистрируется государственным органом (регистрационной палатой);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Устав общественной</a:t>
            </a:r>
            <a:r>
              <a:rPr b="1" lang="ru-RU" sz="26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cd3333"/>
                </a:solidFill>
                <a:latin typeface="Times New Roman"/>
              </a:rPr>
              <a:t>организации</a:t>
            </a:r>
            <a:r>
              <a:rPr b="0" lang="ru-RU" sz="2600" spc="-1" strike="noStrike">
                <a:solidFill>
                  <a:srgbClr val="cd3333"/>
                </a:solidFill>
                <a:latin typeface="Times New Roman"/>
              </a:rPr>
              <a:t> </a:t>
            </a:r>
            <a:r>
              <a:rPr b="0" lang="ru-RU" sz="2600" spc="-1" strike="noStrike">
                <a:solidFill>
                  <a:srgbClr val="402000"/>
                </a:solidFill>
                <a:latin typeface="Times New Roman"/>
              </a:rPr>
              <a:t>(утверждается общим собранием (съездом) участников организации.</a:t>
            </a:r>
            <a:endParaRPr b="0" lang="en-US" sz="26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"/>
          <p:cNvPicPr/>
          <p:nvPr/>
        </p:nvPicPr>
        <p:blipFill>
          <a:blip r:embed="rId1"/>
          <a:srcRect l="31686" t="19289" r="31981" b="20536"/>
          <a:stretch/>
        </p:blipFill>
        <p:spPr>
          <a:xfrm>
            <a:off x="684360" y="260280"/>
            <a:ext cx="5159160" cy="633744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3"/>
          <p:cNvSpPr/>
          <p:nvPr/>
        </p:nvSpPr>
        <p:spPr>
          <a:xfrm>
            <a:off x="5904000" y="333360"/>
            <a:ext cx="3240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ис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 – просьбы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"/>
          <p:cNvPicPr/>
          <p:nvPr/>
        </p:nvPicPr>
        <p:blipFill>
          <a:blip r:embed="rId1"/>
          <a:srcRect l="31161" t="17763" r="31604" b="19109"/>
          <a:stretch/>
        </p:blipFill>
        <p:spPr>
          <a:xfrm>
            <a:off x="900000" y="260280"/>
            <a:ext cx="5040360" cy="640872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3"/>
          <p:cNvSpPr/>
          <p:nvPr/>
        </p:nvSpPr>
        <p:spPr>
          <a:xfrm>
            <a:off x="6156360" y="333360"/>
            <a:ext cx="3456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входящего 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письма-ответ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письм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Должен быть лаконичным, последовательным, убедительным и корректным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Текст, как правило, не превышает одной страницы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Факты и события должны представляться объективно;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Все стороны излагаемого вопроса должны освещаться с достаточной полнотой, кратко и ясно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2" descr=""/>
          <p:cNvPicPr/>
          <p:nvPr/>
        </p:nvPicPr>
        <p:blipFill>
          <a:blip r:embed="rId1"/>
          <a:srcRect l="30895" t="16565" r="30308" b="19415"/>
          <a:stretch/>
        </p:blipFill>
        <p:spPr>
          <a:xfrm>
            <a:off x="900000" y="333360"/>
            <a:ext cx="4827600" cy="6264360"/>
          </a:xfrm>
          <a:prstGeom prst="rect">
            <a:avLst/>
          </a:prstGeom>
          <a:ln w="0">
            <a:noFill/>
          </a:ln>
        </p:spPr>
      </p:pic>
      <p:sp>
        <p:nvSpPr>
          <p:cNvPr id="229" name="Text Box 3"/>
          <p:cNvSpPr/>
          <p:nvPr/>
        </p:nvSpPr>
        <p:spPr>
          <a:xfrm>
            <a:off x="5580000" y="404640"/>
            <a:ext cx="41054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Times New Roman"/>
              </a:rPr>
              <a:t>Образец гарантийного письма</a:t>
            </a:r>
            <a:endParaRPr b="0" lang="en-US" sz="40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796000" y="764640"/>
            <a:ext cx="334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Times New Roman"/>
              </a:rPr>
              <a:t>Образец информацион-ного письма</a:t>
            </a:r>
            <a:r>
              <a:rPr b="0" lang="ru-RU" sz="40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2" name="Picture 5" descr=""/>
          <p:cNvPicPr/>
          <p:nvPr/>
        </p:nvPicPr>
        <p:blipFill>
          <a:blip r:embed="rId1"/>
          <a:srcRect l="31141" t="18237" r="31186" b="12559"/>
          <a:stretch/>
        </p:blipFill>
        <p:spPr>
          <a:xfrm>
            <a:off x="826920" y="260280"/>
            <a:ext cx="4969080" cy="6337440"/>
          </a:xfrm>
          <a:prstGeom prst="rect">
            <a:avLst/>
          </a:prstGeom>
          <a:ln w="0">
            <a:noFill/>
          </a:ln>
        </p:spPr>
      </p:pic>
      <p:sp>
        <p:nvSpPr>
          <p:cNvPr id="23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</a:rPr>
              <a:t>Вопросы ?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235" name="Picture 3" descr="HMM"/>
          <p:cNvPicPr/>
          <p:nvPr/>
        </p:nvPicPr>
        <p:blipFill>
          <a:blip r:embed="rId1"/>
          <a:stretch/>
        </p:blipFill>
        <p:spPr>
          <a:xfrm>
            <a:off x="4038480" y="2057400"/>
            <a:ext cx="1416240" cy="3833640"/>
          </a:xfrm>
          <a:prstGeom prst="rect">
            <a:avLst/>
          </a:prstGeom>
          <a:ln w="0">
            <a:noFill/>
          </a:ln>
        </p:spPr>
      </p:pic>
      <p:sp>
        <p:nvSpPr>
          <p:cNvPr id="236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Устав должен иметь: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организации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Наименование вида документа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Дату (это дата утверждения устава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Гриф утвержд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Отметку о регистрации устава (для коммерческих организаций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Место издания (город)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екст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Подписи учредителей или лиц, занимающих выборные должности (председателя, секретаря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Текст устава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26560" y="1628280"/>
            <a:ext cx="7993080" cy="468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5850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Состоит из разделов, имеющих заголовки и нумерацию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бщие положен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Цели, задачи, предмет деятельност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овой статус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Организационная структура (органы управления, структурные подразделения и их взаимосвяз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Финансово-материальная база (уставной капитал, акции, основные и оборотные средства, порядок распоряжения ими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Учет и отчетность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Контроль за финансово-хозяйственной деятельностью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рава и обязанности участников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950760" indent="-51192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Font typeface="Times New Roman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Порядок ликвидации и реогранизации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Положения, инструкции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d3333"/>
                </a:solidFill>
                <a:latin typeface="Times New Roman"/>
              </a:rPr>
              <a:t>Положение 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– нормативный акт, определяющий порядок образования, структуру, функции, права и обязанности организации, структурного подразделения, коллегиального органа (комиссии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d3333"/>
                </a:solidFill>
                <a:latin typeface="Times New Roman"/>
              </a:rPr>
              <a:t>Инструкция</a:t>
            </a:r>
            <a:r>
              <a:rPr b="0" lang="ru-RU" sz="2800" spc="-1" strike="noStrike">
                <a:solidFill>
                  <a:srgbClr val="402000"/>
                </a:solidFill>
                <a:latin typeface="Times New Roman"/>
              </a:rPr>
              <a:t> – нормативный акт, регулирующий организационные, производственные, финансовые и иные вопросы деятельности организаций, предприятий и должностных лиц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Должностная инструкция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5640" y="1773000"/>
            <a:ext cx="777708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Это нормативный документ, в котором определены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функции, права, обязанности и ответственность сотрудника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предприятия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На основании должностной инструкции разрабатывается </a:t>
            </a:r>
            <a:r>
              <a:rPr b="1" lang="ru-RU" sz="2400" spc="-1" strike="noStrike">
                <a:solidFill>
                  <a:srgbClr val="402000"/>
                </a:solidFill>
                <a:latin typeface="Times New Roman"/>
              </a:rPr>
              <a:t>трудовой договор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с работник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Должностная инструкция: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разрабатыв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структурного подразделения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визиру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юрисконсультом и кадровой службой;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402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2000"/>
                </a:solidFill>
                <a:uFillTx/>
                <a:latin typeface="Times New Roman"/>
              </a:rPr>
              <a:t>утверждается</a:t>
            </a:r>
            <a:r>
              <a:rPr b="0" lang="ru-RU" sz="2400" spc="-1" strike="noStrike">
                <a:solidFill>
                  <a:srgbClr val="402000"/>
                </a:solidFill>
                <a:latin typeface="Times New Roman"/>
              </a:rPr>
              <a:t>  руководителем или заместителем директора, курирующим это подразделение, или вводится приказом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71640" y="404640"/>
            <a:ext cx="7772400" cy="102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d3333"/>
                </a:solidFill>
                <a:latin typeface="Times New Roman"/>
              </a:rPr>
              <a:t>Распорядительные документы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700360" y="2060640"/>
            <a:ext cx="47512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402000"/>
                </a:solidFill>
                <a:latin typeface="Times New Roman"/>
              </a:rPr>
              <a:t> 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Приказ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аспоряж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Указа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  </a:t>
            </a:r>
            <a:r>
              <a:rPr b="1" lang="ru-RU" sz="4400" spc="-1" strike="noStrike">
                <a:solidFill>
                  <a:srgbClr val="402000"/>
                </a:solidFill>
                <a:latin typeface="Times New Roman"/>
              </a:rPr>
              <a:t>Решение</a:t>
            </a: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3" name="Місце для нижнього колонтитула 1"/>
          <p:cNvSpPr/>
          <p:nvPr/>
        </p:nvSpPr>
        <p:spPr>
          <a:xfrm>
            <a:off x="342900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a08366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9T20:15:18Z</dcterms:created>
  <dc:creator>Людмила Шипулина</dc:creator>
  <dc:description/>
  <dc:language>en-US</dc:language>
  <cp:lastModifiedBy>LEGION</cp:lastModifiedBy>
  <dcterms:modified xsi:type="dcterms:W3CDTF">2016-01-11T10:02:53Z</dcterms:modified>
  <cp:revision>43</cp:revision>
  <dc:subject/>
  <dc:title>Образцы основных документов управления</dc:title>
</cp:coreProperties>
</file>